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1B34-D668-42CE-B3B4-040C3C9A6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A3EE-DE74-46A2-93BE-FD5551E34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F8A1-41CD-4105-AA3D-D4BC009DC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2C66-92A7-40FB-A334-009A88D35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42DA-28B1-4EDC-B405-EDFB0E21B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75A7-2A50-481F-A600-7F7DC5149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C683-7ACF-4AC4-85A5-E240EE24E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0083-1CC3-48AB-BC9E-AC931EE3C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6C40-3E02-4CBA-8380-7BEF216C7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4240-9E62-4B03-AB5A-91FDC6DF0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4211-62CD-49E2-AC71-BE19F5291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7E35-34D4-4CB0-8DCF-2DFFEE966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208FC1-F43B-4AF4-877F-EDA6B311D06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4T09:07:08Z</dcterms:modified>
  <cp:revision>77</cp:revision>
  <dc:subject/>
  <dc:title>No Slide Title</dc:title>
</cp:coreProperties>
</file>